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02E-C152-4222-AF41-861F956B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16E-5A2E-4C03-8213-60456354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E4F-F943-4C80-B183-B25BCC0E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3C6-AC51-406C-8062-64A13C9C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598-A4E6-4A69-A863-CD003BCF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E47-C854-4D84-A088-6BD541AB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DB3-7F9B-4DCE-AA3C-7F0C9C3F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587-808B-423D-B8C7-160B050A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27B-CBB3-453D-A36F-5FEA70AD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CC4-D950-4A13-AFD0-CED64EC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480-0453-4635-A292-A5B066F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382-46B2-4754-873C-2222E24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6E63-3E9B-4A33-BFA3-39FB05D9E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OH &amp; S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OSE RESPONSIBILITY IS IT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Victorian Occupational Health &amp; Safety Act (2004)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ates that the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employer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“must as far as is reasonably practicable, provide and maintain a working environment that is safe and without risks to health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lso have obligations under legislation to take reasonable care of the health and safety of themselves and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others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and to cooperative with the employer in compliance with the legi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Why Study O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One of the main reasons we study occupational health and safety is because as you just read on the previous slid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E ARE ALL RESPONSIBLE FOR O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ot just your emplo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ot just the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Look in the mirror to see the most important person responsible for your O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1:53:05Z</dcterms:created>
  <dc:creator>Owner</dc:creator>
  <dc:description/>
  <dc:language>en-US</dc:language>
  <cp:lastModifiedBy>Owner</cp:lastModifiedBy>
  <dcterms:modified xsi:type="dcterms:W3CDTF">2010-08-30T06:56:57Z</dcterms:modified>
  <cp:revision>7</cp:revision>
  <dc:subject/>
  <dc:title>OH &amp; S WHOSE RESPONSIBILITY IS IT ???</dc:title>
</cp:coreProperties>
</file>